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35.wmf" ContentType="image/x-wmf"/>
  <Override PartName="/ppt/media/image59.png" ContentType="image/png"/>
  <Override PartName="/ppt/media/image24.jpeg" ContentType="image/jpeg"/>
  <Override PartName="/ppt/media/image36.jpeg" ContentType="image/jpeg"/>
  <Override PartName="/ppt/media/image57.png" ContentType="image/png"/>
  <Override PartName="/ppt/media/image2.jpeg" ContentType="image/jpeg"/>
  <Override PartName="/ppt/media/image31.png" ContentType="image/png"/>
  <Override PartName="/ppt/media/image29.wmf" ContentType="image/x-wmf"/>
  <Override PartName="/ppt/media/image22.jpeg" ContentType="image/jpeg"/>
  <Override PartName="/ppt/media/image39.png" ContentType="image/png"/>
  <Override PartName="/ppt/media/image64.jpeg" ContentType="image/jpeg"/>
  <Override PartName="/ppt/media/image38.jpeg" ContentType="image/jpeg"/>
  <Override PartName="/ppt/media/image14.jpeg" ContentType="image/jpeg"/>
  <Override PartName="/ppt/media/image54.png" ContentType="image/png"/>
  <Override PartName="/ppt/media/image46.jpeg" ContentType="image/jpeg"/>
  <Override PartName="/ppt/media/image26.wmf" ContentType="image/x-wmf"/>
  <Override PartName="/ppt/media/image51.jpeg" ContentType="image/jpeg"/>
  <Override PartName="/ppt/media/image23.jpeg" ContentType="image/jpeg"/>
  <Override PartName="/ppt/media/image17.gif" ContentType="image/gif"/>
  <Override PartName="/ppt/media/image50.jpeg" ContentType="image/jpeg"/>
  <Override PartName="/ppt/media/image21.jpeg" ContentType="image/jpeg"/>
  <Override PartName="/ppt/media/image61.gif" ContentType="image/gif"/>
  <Override PartName="/ppt/media/image60.jpeg" ContentType="image/jpeg"/>
  <Override PartName="/ppt/media/image16.jpeg" ContentType="image/jpeg"/>
  <Override PartName="/ppt/media/image62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19.jpeg" ContentType="image/jpeg"/>
  <Override PartName="/ppt/media/image15.jpeg" ContentType="image/jpeg"/>
  <Override PartName="/ppt/media/image6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27.jpeg" ContentType="image/jpeg"/>
  <Override PartName="/ppt/media/image10.jpeg" ContentType="image/jpeg"/>
  <Override PartName="/ppt/media/image58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52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34.jpeg" ContentType="image/jpeg"/>
  <Override PartName="/ppt/media/image42.jpeg" ContentType="image/jpeg"/>
  <Override PartName="/ppt/media/image40.wmf" ContentType="image/x-wmf"/>
  <Override PartName="/ppt/media/image12.jpeg" ContentType="image/jpeg"/>
  <Override PartName="/ppt/media/image37.wmf" ContentType="image/x-wmf"/>
  <Override PartName="/ppt/media/image3.jpeg" ContentType="image/jpeg"/>
  <Override PartName="/ppt/media/image41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F2D-0E88-4C44-BA0C-DC525A80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0C2-A2B2-4714-9657-28B304E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F99-7763-402E-B85B-4B1B614A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3A9-4879-4794-BDB8-881C9595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D574-3B2C-462C-9E4A-B2432BE6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C8E-1E8D-46D5-8D58-A615FF1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45D-B40E-4E03-8A68-7618CC07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86C-C04C-47CD-A05A-847985E4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1FF0-94BA-497F-BC0F-AB21B88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D1BD-CA13-42EE-A620-6C2F2FF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133-0E7A-48EA-94B6-49802BE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7B5-E731-4221-B827-042BF0F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0FEE-C35D-4F7F-8E55-F4D67689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1030-CE5A-4761-8986-E58D3CF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7228-3977-4C02-ABCE-2EE9CCD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742E-641F-40F0-A5F3-BC7053D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4D70-7588-49F4-A75B-F232D734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768-D5C6-48A3-A93B-9B713AE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766-802E-48C7-BFAC-A7C2D81E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0A1-285B-4903-ADAD-E924642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7FB-5660-4284-8ACA-0CD8D3D9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51D-39B8-4964-84C4-943ACD6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C39-3233-4CDA-B73C-D3C531BD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F3EF-DD7E-4E0F-987B-785BEAFE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6C6-005C-4C2F-A35F-50CDA52572F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8E39-88EF-40CF-8EAA-D1EC245E130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psports.com/main.php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virtualspectator.com.au/" TargetMode="External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championdata.com.au/" TargetMode="External"/><Relationship Id="rId11" Type="http://schemas.openxmlformats.org/officeDocument/2006/relationships/hyperlink" Target="http://www.sportsci.org/" TargetMode="External"/><Relationship Id="rId12" Type="http://schemas.openxmlformats.org/officeDocument/2006/relationships/hyperlink" Target="http://www.pineapplehead.com.au/" TargetMode="External"/><Relationship Id="rId13" Type="http://schemas.openxmlformats.org/officeDocument/2006/relationships/hyperlink" Target="http://www.brianmac.demon.co.uk/eval.htm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ortal.com.au/default.aspx/afl-news-display/saints-restore-respect-30058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5916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015218gallery"/>
          <p:cNvPicPr/>
          <p:nvPr/>
        </p:nvPicPr>
        <p:blipFill>
          <a:blip r:embed="rId1"/>
          <a:stretch/>
        </p:blipFill>
        <p:spPr>
          <a:xfrm>
            <a:off x="5797440" y="1773360"/>
            <a:ext cx="2948040" cy="44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20"/>
          <p:cNvSpPr/>
          <p:nvPr/>
        </p:nvSpPr>
        <p:spPr>
          <a:xfrm>
            <a:off x="250920" y="242100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1" descr="bookCover_34"/>
          <p:cNvPicPr/>
          <p:nvPr/>
        </p:nvPicPr>
        <p:blipFill>
          <a:blip r:embed="rId2"/>
          <a:stretch/>
        </p:blipFill>
        <p:spPr>
          <a:xfrm>
            <a:off x="3564000" y="2565360"/>
            <a:ext cx="125424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Live it up 2"/>
          <p:cNvPicPr/>
          <p:nvPr/>
        </p:nvPicPr>
        <p:blipFill>
          <a:blip r:embed="rId3"/>
          <a:stretch/>
        </p:blipFill>
        <p:spPr>
          <a:xfrm>
            <a:off x="3568680" y="4508640"/>
            <a:ext cx="1212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ever, no hard evidence t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 and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crete evidence to review in the form of st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deo recording and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deo footage only used after a game – no immediate feedback. Excellent for game 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3185298_10"/>
          <p:cNvPicPr/>
          <p:nvPr/>
        </p:nvPicPr>
        <p:blipFill>
          <a:blip r:embed="rId1"/>
          <a:stretch/>
        </p:blipFill>
        <p:spPr>
          <a:xfrm>
            <a:off x="6227640" y="1830240"/>
            <a:ext cx="240516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ustNetballTeamPG"/>
          <p:cNvPicPr/>
          <p:nvPr/>
        </p:nvPicPr>
        <p:blipFill>
          <a:blip r:embed="rId2"/>
          <a:stretch/>
        </p:blipFill>
        <p:spPr>
          <a:xfrm>
            <a:off x="5435640" y="4581360"/>
            <a:ext cx="32367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81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Types of Data Collecte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Interpreting the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ce the data has been collected, the analysis can be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alysis requi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dentifying patterns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necting piece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laining and classifying series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analysis of data can determ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ropriat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method su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ining cycl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rm up and recovery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wimming"/>
          <p:cNvPicPr/>
          <p:nvPr/>
        </p:nvPicPr>
        <p:blipFill>
          <a:blip r:embed="rId1"/>
          <a:stretch/>
        </p:blipFill>
        <p:spPr>
          <a:xfrm>
            <a:off x="7020000" y="189000"/>
            <a:ext cx="1914480" cy="1276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ycling"/>
          <p:cNvPicPr/>
          <p:nvPr/>
        </p:nvPicPr>
        <p:blipFill>
          <a:blip r:embed="rId2"/>
          <a:stretch/>
        </p:blipFill>
        <p:spPr>
          <a:xfrm>
            <a:off x="4859280" y="4653000"/>
            <a:ext cx="3745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kill Frequ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733400"/>
            <a:ext cx="838512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kill frequency charts are used to record the types of skills used and how frequently the occur. The effectiveness of each skill can also be reco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kill frequency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re relevant to technical data rather than 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layer is able to get feedback on thei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ome information on fitness components could be extra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g. Number of changes of direction could determine use of ag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nnis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755640" y="5013360"/>
            <a:ext cx="770400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Photo Titled Determined Sugiyama "/>
          <p:cNvPicPr/>
          <p:nvPr/>
        </p:nvPicPr>
        <p:blipFill>
          <a:blip r:embed="rId2"/>
          <a:stretch/>
        </p:blipFill>
        <p:spPr>
          <a:xfrm>
            <a:off x="7380360" y="189000"/>
            <a:ext cx="1547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ask on page 17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ited to free range movement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ires the charting of a player and plotting their movement details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formation can then be used in statistical gr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PS is now being used in major sports (See pi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alysermap"/>
          <p:cNvPicPr/>
          <p:nvPr/>
        </p:nvPicPr>
        <p:blipFill>
          <a:blip r:embed="rId1"/>
          <a:stretch/>
        </p:blipFill>
        <p:spPr>
          <a:xfrm>
            <a:off x="5113440" y="1676520"/>
            <a:ext cx="3801960" cy="4489200"/>
          </a:xfrm>
          <a:prstGeom prst="rect">
            <a:avLst/>
          </a:prstGeom>
          <a:ln w="9360">
            <a:solidFill>
              <a:srgbClr val="1a3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ful in determining muscle group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s to have intensity and duration information to determine energy system and fitnes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deo analysis is better for analysing movemen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716360" y="1676520"/>
            <a:ext cx="4137120" cy="45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1732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826920" y="1697040"/>
            <a:ext cx="8066160" cy="4930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ample Movement Patte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PI Elite (GPS Sports Produc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14368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PSports technology provides objective information on a player's speed, distance travelled, changes of direction, impacts and heart 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s information can then be used to modify training volumes and intensities and compare player or positional work-rates and work-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GPSports 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305080"/>
            <a:ext cx="1801800" cy="1077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AFL Player wearing SPI Elite"/>
          <p:cNvPicPr/>
          <p:nvPr/>
        </p:nvPicPr>
        <p:blipFill>
          <a:blip r:embed="rId3"/>
          <a:stretch/>
        </p:blipFill>
        <p:spPr>
          <a:xfrm>
            <a:off x="5364000" y="3645000"/>
            <a:ext cx="3313440" cy="25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SPI Elite in Hand"/>
          <p:cNvPicPr/>
          <p:nvPr/>
        </p:nvPicPr>
        <p:blipFill>
          <a:blip r:embed="rId4"/>
          <a:stretch/>
        </p:blipFill>
        <p:spPr>
          <a:xfrm>
            <a:off x="7380360" y="1844640"/>
            <a:ext cx="1171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ork to Rest Rati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pares the amount of time working in comparison to time spent 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on ratio is 1:3 in team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ful in determining contribution of energy systems and the type of training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 positions in team sports have different work to res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4175280" cy="224784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pic>
        <p:nvPicPr>
          <p:cNvPr id="178" name="Picture 6" descr="Netball Attack"/>
          <p:cNvPicPr/>
          <p:nvPr/>
        </p:nvPicPr>
        <p:blipFill>
          <a:blip r:embed="rId2"/>
          <a:stretch/>
        </p:blipFill>
        <p:spPr>
          <a:xfrm>
            <a:off x="6588000" y="4292640"/>
            <a:ext cx="208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23736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y collec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ermine fitness and physiological requirements of an activity or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ata is usually based on elite performers and can require specialist equipment such as GPS trac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dividuals or teams can narrow the gap resulting in impr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data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data helps determine what skills and attributes that are needed in a particular sport for a successful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AFL GPS"/>
          <p:cNvPicPr/>
          <p:nvPr/>
        </p:nvPicPr>
        <p:blipFill>
          <a:blip r:embed="rId1"/>
          <a:stretch/>
        </p:blipFill>
        <p:spPr>
          <a:xfrm>
            <a:off x="6948360" y="1989000"/>
            <a:ext cx="172908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j0283773"/>
          <p:cNvPicPr/>
          <p:nvPr/>
        </p:nvPicPr>
        <p:blipFill>
          <a:blip r:embed="rId2"/>
          <a:stretch/>
        </p:blipFill>
        <p:spPr>
          <a:xfrm>
            <a:off x="7596360" y="333360"/>
            <a:ext cx="1079280" cy="998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green_and_gold"/>
          <p:cNvPicPr/>
          <p:nvPr/>
        </p:nvPicPr>
        <p:blipFill>
          <a:blip r:embed="rId3"/>
          <a:stretch/>
        </p:blipFill>
        <p:spPr>
          <a:xfrm>
            <a:off x="6948360" y="4221000"/>
            <a:ext cx="1808280" cy="2270160"/>
          </a:xfrm>
          <a:prstGeom prst="rect">
            <a:avLst/>
          </a:prstGeom>
          <a:ln w="0">
            <a:noFill/>
          </a:ln>
        </p:spPr>
      </p:pic>
      <p:sp>
        <p:nvSpPr>
          <p:cNvPr id="95" name="Line 21"/>
          <p:cNvSpPr/>
          <p:nvPr/>
        </p:nvSpPr>
        <p:spPr>
          <a:xfrm>
            <a:off x="6084720" y="2997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mbined Work-Rest Ratio and Intens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tensity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ymbols are allocated to the intensities observed during an activity or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hart could use symbols such as (H) high, (M) medium or (L) low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t intervals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y useful in determining energy systems and fitnes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5880" y="167652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ombined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quires constant monitoring of the athl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serving intensity levels and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serving length of rest periods before next action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ives an accurate account of energy system inter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8.5 p.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ee table 8.6 p.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99280" cy="48243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FL Data from One Quar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ablett"/>
          <p:cNvPicPr/>
          <p:nvPr/>
        </p:nvPicPr>
        <p:blipFill>
          <a:blip r:embed="rId2"/>
          <a:stretch/>
        </p:blipFill>
        <p:spPr>
          <a:xfrm>
            <a:off x="1187280" y="3645000"/>
            <a:ext cx="22384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181,182 and 18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3, 8.4 and 8.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Zo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5600" y="1801800"/>
            <a:ext cx="359064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R monitors use is widespread in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hletes should train in the training z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ax HR = 220 -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aerobic zone – 85% max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erobic zone – 70-85% max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covery zone – Below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exercise-zones"/>
          <p:cNvPicPr/>
          <p:nvPr/>
        </p:nvPicPr>
        <p:blipFill>
          <a:blip r:embed="rId1"/>
          <a:stretch/>
        </p:blipFill>
        <p:spPr>
          <a:xfrm>
            <a:off x="4656240" y="1676520"/>
            <a:ext cx="4259160" cy="44164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eart r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ermines intensit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eeds additional data on duration and work-rest ratio to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e table 8.10 p.1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See tables 8.12 &amp; 8.13 p.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7705800" cy="2283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8097840" cy="4751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"/>
          <p:cNvSpPr/>
          <p:nvPr/>
        </p:nvSpPr>
        <p:spPr>
          <a:xfrm>
            <a:off x="4500720" y="6237360"/>
            <a:ext cx="936360" cy="216000"/>
          </a:xfrm>
          <a:prstGeom prst="wedgeRectCallout">
            <a:avLst>
              <a:gd name="adj1" fmla="val -8643"/>
              <a:gd name="adj2" fmla="val -187500"/>
            </a:avLst>
          </a:prstGeom>
          <a:solidFill>
            <a:srgbClr val="93d5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cro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116000" y="549360"/>
            <a:ext cx="7796160" cy="554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Arial"/>
              </a:rPr>
              <a:t>Heart Rate response to altitude and speed: 13.2km Puffing Billy Fun Run 6/5/0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Pedomet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be used to meas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trav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lories exp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R (In more expensive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monly used as a motivational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walking"/>
          <p:cNvPicPr/>
          <p:nvPr/>
        </p:nvPicPr>
        <p:blipFill>
          <a:blip r:embed="rId1"/>
          <a:stretch/>
        </p:blipFill>
        <p:spPr>
          <a:xfrm>
            <a:off x="5580000" y="1844640"/>
            <a:ext cx="3276720" cy="39625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81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29a744"/>
                </a:solidFill>
                <a:latin typeface="Arial"/>
              </a:rPr>
              <a:t>Virtual Specta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556731"/>
                </a:solidFill>
                <a:uFillTx/>
                <a:latin typeface="Arial"/>
                <a:hlinkClick r:id="rId1"/>
              </a:rPr>
              <a:t>http://www.virtualspectator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ation and Statistical Data Col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scoreboard_cricket_large2"/>
          <p:cNvPicPr/>
          <p:nvPr/>
        </p:nvPicPr>
        <p:blipFill>
          <a:blip r:embed="rId1"/>
          <a:stretch/>
        </p:blipFill>
        <p:spPr>
          <a:xfrm>
            <a:off x="368280" y="1733400"/>
            <a:ext cx="4222800" cy="237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4262040"/>
            <a:ext cx="86868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dvantage of additional statistical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vidence that supports observatio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Stopwatch and recording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chnology is being used to collect and collate data more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Virtual spectator and champion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scoreboard_cricket_large1"/>
          <p:cNvPicPr/>
          <p:nvPr/>
        </p:nvPicPr>
        <p:blipFill>
          <a:blip r:embed="rId2"/>
          <a:stretch/>
        </p:blipFill>
        <p:spPr>
          <a:xfrm>
            <a:off x="5076720" y="1700280"/>
            <a:ext cx="3697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FL PlayTra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playtrac_afl_large1"/>
          <p:cNvPicPr/>
          <p:nvPr/>
        </p:nvPicPr>
        <p:blipFill>
          <a:blip r:embed="rId1"/>
          <a:stretch/>
        </p:blipFill>
        <p:spPr>
          <a:xfrm>
            <a:off x="900000" y="1844640"/>
            <a:ext cx="3672000" cy="1784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playtrac_afl_large2"/>
          <p:cNvPicPr/>
          <p:nvPr/>
        </p:nvPicPr>
        <p:blipFill>
          <a:blip r:embed="rId2"/>
          <a:stretch/>
        </p:blipFill>
        <p:spPr>
          <a:xfrm>
            <a:off x="1692360" y="3716280"/>
            <a:ext cx="6265800" cy="2871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laytrac_afl_large"/>
          <p:cNvPicPr/>
          <p:nvPr/>
        </p:nvPicPr>
        <p:blipFill>
          <a:blip r:embed="rId3"/>
          <a:stretch/>
        </p:blipFill>
        <p:spPr>
          <a:xfrm>
            <a:off x="4859280" y="1844640"/>
            <a:ext cx="3745080" cy="1747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afl_playtrac_heading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6335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Useful Information for Coach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829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nformation would be useful for an athlete or their coa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hysical* – Physiological fitnes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– Psychological preparation/ ability to cope with game day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chnical – Skill level under fatigue an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actical – Decision making under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4440" y="1676520"/>
            <a:ext cx="426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will concentrate on the physical inform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itness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ner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uscle groups and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vement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ork to res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pponents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io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raining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mick_malthouse,0"/>
          <p:cNvPicPr/>
          <p:nvPr/>
        </p:nvPicPr>
        <p:blipFill>
          <a:blip r:embed="rId1"/>
          <a:stretch/>
        </p:blipFill>
        <p:spPr>
          <a:xfrm>
            <a:off x="7740720" y="4941720"/>
            <a:ext cx="1192320" cy="168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rodneyeade"/>
          <p:cNvPicPr/>
          <p:nvPr/>
        </p:nvPicPr>
        <p:blipFill>
          <a:blip r:embed="rId2"/>
          <a:stretch/>
        </p:blipFill>
        <p:spPr>
          <a:xfrm>
            <a:off x="971640" y="5084640"/>
            <a:ext cx="2232000" cy="135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r45690_118830"/>
          <p:cNvPicPr/>
          <p:nvPr/>
        </p:nvPicPr>
        <p:blipFill>
          <a:blip r:embed="rId3"/>
          <a:stretch/>
        </p:blipFill>
        <p:spPr>
          <a:xfrm>
            <a:off x="6948360" y="189000"/>
            <a:ext cx="1927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cricket_3dvr_large1"/>
          <p:cNvPicPr/>
          <p:nvPr/>
        </p:nvPicPr>
        <p:blipFill>
          <a:blip r:embed="rId1"/>
          <a:stretch/>
        </p:blipFill>
        <p:spPr>
          <a:xfrm>
            <a:off x="1042920" y="1773360"/>
            <a:ext cx="3776760" cy="208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ricket_3dvr_large4"/>
          <p:cNvPicPr/>
          <p:nvPr/>
        </p:nvPicPr>
        <p:blipFill>
          <a:blip r:embed="rId2"/>
          <a:stretch/>
        </p:blipFill>
        <p:spPr>
          <a:xfrm>
            <a:off x="1042920" y="4005360"/>
            <a:ext cx="3745080" cy="2232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tv_cricket_large1"/>
          <p:cNvPicPr/>
          <p:nvPr/>
        </p:nvPicPr>
        <p:blipFill>
          <a:blip r:embed="rId3"/>
          <a:stretch/>
        </p:blipFill>
        <p:spPr>
          <a:xfrm>
            <a:off x="5003640" y="4005360"/>
            <a:ext cx="37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tv_cricket_large2"/>
          <p:cNvPicPr/>
          <p:nvPr/>
        </p:nvPicPr>
        <p:blipFill>
          <a:blip r:embed="rId4"/>
          <a:stretch/>
        </p:blipFill>
        <p:spPr>
          <a:xfrm>
            <a:off x="4932360" y="1700280"/>
            <a:ext cx="3816360" cy="2160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ricket Super Sco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cricketsuperscore_heading1"/>
          <p:cNvPicPr/>
          <p:nvPr/>
        </p:nvPicPr>
        <p:blipFill>
          <a:blip r:embed="rId5"/>
          <a:stretch/>
        </p:blipFill>
        <p:spPr>
          <a:xfrm>
            <a:off x="7812000" y="189000"/>
            <a:ext cx="114156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Activity Analysis </a:t>
            </a:r>
            <a:br>
              <a:rPr sz="4000"/>
            </a:b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Football Rover TAC C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Heart Rate &amp; Playing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13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kill Frequ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50920" y="1773360"/>
          <a:ext cx="8686800" cy="2806560"/>
        </p:xfrm>
        <a:graphic>
          <a:graphicData uri="http://schemas.openxmlformats.org/drawingml/2006/table">
            <a:tbl>
              <a:tblPr/>
              <a:tblGrid>
                <a:gridCol w="1157040"/>
                <a:gridCol w="547920"/>
                <a:gridCol w="623880"/>
                <a:gridCol w="704880"/>
                <a:gridCol w="625320"/>
                <a:gridCol w="703440"/>
                <a:gridCol w="625320"/>
                <a:gridCol w="546120"/>
                <a:gridCol w="547560"/>
                <a:gridCol w="547920"/>
                <a:gridCol w="938160"/>
                <a:gridCol w="1119240"/>
              </a:tblGrid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B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s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-4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+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36" name="Picture 3541" descr="title_tac"/>
          <p:cNvPicPr/>
          <p:nvPr/>
        </p:nvPicPr>
        <p:blipFill>
          <a:blip r:embed="rId1"/>
          <a:stretch/>
        </p:blipFill>
        <p:spPr>
          <a:xfrm>
            <a:off x="971640" y="4797360"/>
            <a:ext cx="77770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Additional Skill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1700280"/>
          <a:ext cx="4736880" cy="4489560"/>
        </p:xfrm>
        <a:graphic>
          <a:graphicData uri="http://schemas.openxmlformats.org/drawingml/2006/table">
            <a:tbl>
              <a:tblPr/>
              <a:tblGrid>
                <a:gridCol w="2801880"/>
                <a:gridCol w="19350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/Airbo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k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mp/P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 to Ground/P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al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ops from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40" name="Picture 139" descr="Bendigo-Pioneers"/>
          <p:cNvPicPr/>
          <p:nvPr/>
        </p:nvPicPr>
        <p:blipFill>
          <a:blip r:embed="rId1"/>
          <a:stretch/>
        </p:blipFill>
        <p:spPr>
          <a:xfrm>
            <a:off x="5580000" y="1700280"/>
            <a:ext cx="310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AU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 Quarter Locomotor Patter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28600" y="1844640"/>
          <a:ext cx="8686800" cy="438300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/4 Pa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1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20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25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+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2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7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b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PI Elite Resul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209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5 page 188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review questions 1-5 page 191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j0236235"/>
          <p:cNvPicPr/>
          <p:nvPr/>
        </p:nvPicPr>
        <p:blipFill>
          <a:blip r:embed="rId2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chapter questions on page 58-62 of Nelson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k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j0236235"/>
          <p:cNvPicPr/>
          <p:nvPr/>
        </p:nvPicPr>
        <p:blipFill>
          <a:blip r:embed="rId1"/>
          <a:stretch/>
        </p:blipFill>
        <p:spPr>
          <a:xfrm>
            <a:off x="8242200" y="189000"/>
            <a:ext cx="587520" cy="792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eak Perf"/>
          <p:cNvPicPr/>
          <p:nvPr/>
        </p:nvPicPr>
        <p:blipFill>
          <a:blip r:embed="rId2"/>
          <a:stretch/>
        </p:blipFill>
        <p:spPr>
          <a:xfrm>
            <a:off x="7289640" y="4581360"/>
            <a:ext cx="1258920" cy="17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29a744"/>
                </a:solidFill>
                <a:latin typeface="Arial"/>
              </a:rPr>
              <a:t>Methods of Data Coll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collection and activ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1844280"/>
            <a:ext cx="864540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ad the summarised information of pages 68-80 of PHYS ED Notes and complete the revision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 E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physed-notes3_4"/>
          <p:cNvPicPr/>
          <p:nvPr/>
        </p:nvPicPr>
        <p:blipFill>
          <a:blip r:embed="rId1"/>
          <a:stretch/>
        </p:blipFill>
        <p:spPr>
          <a:xfrm>
            <a:off x="7209000" y="4365720"/>
            <a:ext cx="1430280" cy="2019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MAG00299_0000[1]"/>
          <p:cNvPicPr/>
          <p:nvPr/>
        </p:nvPicPr>
        <p:blipFill>
          <a:blip r:embed="rId2"/>
          <a:stretch/>
        </p:blipFill>
        <p:spPr>
          <a:xfrm>
            <a:off x="7740720" y="260280"/>
            <a:ext cx="1135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a744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VCAA Questions - 200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2033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6084720" y="5661000"/>
            <a:ext cx="2643480" cy="720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firstbounce"/>
          <p:cNvPicPr/>
          <p:nvPr/>
        </p:nvPicPr>
        <p:blipFill>
          <a:blip r:embed="rId3"/>
          <a:stretch/>
        </p:blipFill>
        <p:spPr>
          <a:xfrm>
            <a:off x="324000" y="4005360"/>
            <a:ext cx="5760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Web Links – Chapter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275" name="Rectangle 4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5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277" name="Group 6"/>
              <p:cNvGrpSpPr/>
              <p:nvPr/>
            </p:nvGrpSpPr>
            <p:grpSpPr>
              <a:xfrm>
                <a:off x="0" y="1562040"/>
                <a:ext cx="9144000" cy="3688200"/>
                <a:chOff x="0" y="1562040"/>
                <a:chExt cx="9144000" cy="3688200"/>
              </a:xfrm>
            </p:grpSpPr>
            <p:sp>
              <p:nvSpPr>
                <p:cNvPr id="278" name="Rectangle 7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Rectangle 8"/>
                <p:cNvSpPr/>
                <p:nvPr/>
              </p:nvSpPr>
              <p:spPr>
                <a:xfrm>
                  <a:off x="0" y="1562040"/>
                  <a:ext cx="9144000" cy="368820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556731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Rectangle 9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1" name="Rectangle 10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1295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hampion Data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0"/>
              </a:rPr>
              <a:t>http://www.championdata.com.au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Sport science (site for sports research)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1"/>
              </a:rPr>
              <a:t>http://www.sportsci.org/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Spectator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Arial"/>
                <a:hlinkClick r:id="rId12"/>
              </a:rPr>
              <a:t>http://www.pineapplehead.com.au/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orts Coach UK – evaluation: </a:t>
            </a:r>
            <a:r>
              <a:rPr b="0" lang="en-AU" sz="24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3"/>
              </a:rPr>
              <a:t>http://www.brianmac.demon.co.uk/eval.htm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5640" y="151920"/>
            <a:ext cx="7799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dividual sports are easier to observe than large team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nitors give feedback to the athlete in regards to their performance. This feedback can then be used to make adjustments during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Quality of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perience and knowledge in the particular sport will benefit observational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s can be affected by prejudice, perceptions and conditions the observations were made u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&#10;Slow starts not so bad, says Swans coach"/>
          <p:cNvPicPr/>
          <p:nvPr/>
        </p:nvPicPr>
        <p:blipFill>
          <a:blip r:embed="rId1"/>
          <a:stretch/>
        </p:blipFill>
        <p:spPr>
          <a:xfrm>
            <a:off x="1187280" y="5448240"/>
            <a:ext cx="1656000" cy="11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rzyzewsky_main"/>
          <p:cNvPicPr/>
          <p:nvPr/>
        </p:nvPicPr>
        <p:blipFill>
          <a:blip r:embed="rId2"/>
          <a:stretch/>
        </p:blipFill>
        <p:spPr>
          <a:xfrm>
            <a:off x="7451640" y="189000"/>
            <a:ext cx="136368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ricket"/>
          <p:cNvPicPr/>
          <p:nvPr/>
        </p:nvPicPr>
        <p:blipFill>
          <a:blip r:embed="rId3"/>
          <a:stretch/>
        </p:blipFill>
        <p:spPr>
          <a:xfrm>
            <a:off x="7164360" y="5300640"/>
            <a:ext cx="15843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Observation or Spectator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server or spectat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ectators can be useful observers as they follow the flow of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aches need to also selectively attend to each of the their players to watch for off the ball pos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bservation Pa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number of panel members can be used to observe in specialis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allows for immediate feedback to the team. However ‘group think’ may be used to please the c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Saints restore respec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149720"/>
            <a:ext cx="352728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r18402_45387"/>
          <p:cNvPicPr/>
          <p:nvPr/>
        </p:nvPicPr>
        <p:blipFill>
          <a:blip r:embed="rId3"/>
          <a:stretch/>
        </p:blipFill>
        <p:spPr>
          <a:xfrm>
            <a:off x="5724360" y="4149720"/>
            <a:ext cx="3095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aboratory task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n page 173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9437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work 8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ookCover_34"/>
          <p:cNvPicPr/>
          <p:nvPr/>
        </p:nvPicPr>
        <p:blipFill>
          <a:blip r:embed="rId1"/>
          <a:stretch/>
        </p:blipFill>
        <p:spPr>
          <a:xfrm>
            <a:off x="6948360" y="414972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MMj03545120000[1]"/>
          <p:cNvPicPr/>
          <p:nvPr/>
        </p:nvPicPr>
        <p:blipFill>
          <a:blip r:embed="rId2"/>
          <a:stretch/>
        </p:blipFill>
        <p:spPr>
          <a:xfrm>
            <a:off x="8459640" y="189000"/>
            <a:ext cx="4716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844280"/>
            <a:ext cx="8501040" cy="47530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lete questions 1-2 page 174 of Nelson Physical Education VCE Units 3 &amp;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ookCover_34"/>
          <p:cNvPicPr/>
          <p:nvPr/>
        </p:nvPicPr>
        <p:blipFill>
          <a:blip r:embed="rId1"/>
          <a:stretch/>
        </p:blipFill>
        <p:spPr>
          <a:xfrm>
            <a:off x="6850080" y="4005360"/>
            <a:ext cx="1827360" cy="241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283719"/>
          <p:cNvPicPr/>
          <p:nvPr/>
        </p:nvPicPr>
        <p:blipFill>
          <a:blip r:embed="rId2"/>
          <a:stretch/>
        </p:blipFill>
        <p:spPr>
          <a:xfrm>
            <a:off x="8028000" y="189000"/>
            <a:ext cx="82872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VCE Physical Education - Uni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151920"/>
            <a:ext cx="7872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Video taping combined with observation and st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dvantag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re reliable than observat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lows passages to plays to be analysed in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thletes need to be keep in view at all times to judge phys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deos can be played at various speeds when analysing skil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rves as a future comparison and possibly as a motivator (Eg. Grand final win or lo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levision has designed new inventive ways of viewing sport which provides coaches with some useful information eg. Stump c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2144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SteveWaughcalfbefore"/>
          <p:cNvPicPr/>
          <p:nvPr/>
        </p:nvPicPr>
        <p:blipFill>
          <a:blip r:embed="rId1"/>
          <a:stretch/>
        </p:blipFill>
        <p:spPr>
          <a:xfrm>
            <a:off x="7812000" y="189000"/>
            <a:ext cx="1028880" cy="136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w462"/>
          <p:cNvPicPr/>
          <p:nvPr/>
        </p:nvPicPr>
        <p:blipFill>
          <a:blip r:embed="rId2"/>
          <a:stretch/>
        </p:blipFill>
        <p:spPr>
          <a:xfrm>
            <a:off x="5364000" y="1844640"/>
            <a:ext cx="3565800" cy="2924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0,,5678467,00"/>
          <p:cNvPicPr/>
          <p:nvPr/>
        </p:nvPicPr>
        <p:blipFill>
          <a:blip r:embed="rId3"/>
          <a:stretch/>
        </p:blipFill>
        <p:spPr>
          <a:xfrm>
            <a:off x="6227640" y="4797360"/>
            <a:ext cx="26784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08311469</cp:lastModifiedBy>
  <dcterms:modified xsi:type="dcterms:W3CDTF">2008-06-17T07:40:31Z</dcterms:modified>
  <cp:revision>154</cp:revision>
  <dc:subject/>
  <dc:title>Unit 4</dc:title>
</cp:coreProperties>
</file>